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F4F-0F04-495C-9633-2088CD0F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FD4-B596-4AE3-8C5F-5487639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301-52CB-4244-83F8-4CFF356B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3F3-A693-42F6-BC18-4A9F8F0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D5B7-8252-4FCA-A5C1-BDD33BA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DFC1-CE4D-4CE8-8AAE-496C8E9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9387-4DEE-452B-BF12-60AA44A6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161-7C1A-4AB6-B031-9540E71F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97C9-B91D-4456-B34B-4AE4B26E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6623-ECAA-4B09-BF96-252301C4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8D70-791F-4D5D-A982-ADE9BBE0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B24-1009-45AD-8139-C9BBC71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0221-D06C-4F21-8468-680E446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3707-5929-4DA1-B555-EDC1949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1825-3D03-4419-977B-04CC54E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A3C7-E0A8-4005-87E5-1178E2E1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9EA-9CFB-414E-A855-BD17EBCA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A9E-C9B2-4397-9CCC-09258A96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C0C-409F-4D30-87B4-CE4DCDC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FF6-18D8-493E-80B9-80F033C1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E8D-8222-478F-8ECF-0FEFB85A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2BA-A2F0-4916-89CB-AD51EF4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2AD-ACAF-4D2A-A702-5AA8714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046-10B3-4B9E-947B-45A2EC3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B9C-6B8F-4B6B-AB67-74F1F3D1A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439A-CC82-4006-99B8-04C5740FB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html?&amp;oid=4938392&amp;s=1&amp;sc=1&amp;st=6&amp;q=toucan&amp;spage=1&amp;hoid=2e8b49233e6bef6bb8eb37e99ce6652e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animationfactory.com/en/search/close-up.html?&amp;oid=4945844&amp;s=1&amp;sc=1&amp;st=113&amp;category_id=E1&amp;q=butterfly&amp;spage=1&amp;hoid=ec139abeeedb2ce81e13ddff0777402b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animationfactory.com/en/search/close-up.html?&amp;oid=4952222&amp;s=1&amp;sc=1&amp;st=18&amp;q=volcano&amp;spage=1&amp;hoid=d6730031e523e2f119fef97329fdb595" TargetMode="External"/><Relationship Id="rId6" Type="http://schemas.openxmlformats.org/officeDocument/2006/relationships/image" Target="../media/image3.gif"/><Relationship Id="rId7" Type="http://schemas.openxmlformats.org/officeDocument/2006/relationships/hyperlink" Target="http://images.google.com/imgres?imgurl=http://www.travelexcellence.com/images/costa-rica-map%255B1%255D.jpg&amp;imgrefurl=http://www.travelexcellence.com/location.htm&amp;usg=__3h3ajfNNlaTxoO-wDx3Tf21BUMc=&amp;h=559&amp;w=571&amp;sz=99&amp;hl=en&amp;start=5&amp;tbnid=tD5o9LjupXPAVM:&amp;tbnh=131&amp;tbnw=134&amp;prev=/images%3Fq%3Dcosta%2Brica%2Bmap%26gbv%3D2%26hl%3Den%26sa%3D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rmissionresearch.com/images/pr/pre_en_waterfalls_large.jpg&amp;imgrefurl=http://www.permissionresearch.com/ScreensaversDescription.aspx&amp;usg=__d9h2Oh-wOQJpuR4pKzdx6z-0muM=&amp;h=480&amp;w=640&amp;sz=85&amp;hl=en&amp;start=10&amp;tbnid=lbViKtQ1a5hJMM:&amp;tbnh=103&amp;tbnw=137&amp;prev=/images%3Fq%3Dwaterfalls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softpedia.com/screenshots/Forest-Waterfalls_1.png&amp;imgrefurl=http://www.softpedia.com/progScreenshots/Forest-Waterfalls-Screenshot-34763.html&amp;usg=__7oHD65ykKAN9Hb8JfC5zh8auSKI=&amp;h=567&amp;w=504&amp;sz=184&amp;hl=en&amp;start=28&amp;tbnid=1Et1PYPU5m7FzM:&amp;tbnh=134&amp;tbnw=119&amp;prev=/images%3Fq%3Dwaterfalls%26gbv%3D2%26ndsp%3D20%26hl%3Den%26sa%3DN%26start%3D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img2.travelblog.org/Photos/11183/92671/f/594340-Rainforest-0.jpg&amp;imgrefurl=http://www.travelblog.org/Photos/594340.html&amp;usg=__5bcsbEeLrlGOBlQSaCc5CEEA5VU=&amp;h=600&amp;w=450&amp;sz=96&amp;hl=en&amp;start=8&amp;tbnid=wmr6hxo_S3hoqM:&amp;tbnh=135&amp;tbnw=101&amp;prev=/images%3Fq%3Drainforest%26gbv%3D2%26hl%3Den%26sa%3D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marietta.edu/~biol/biomes/images/temprain/temperate_rainforest_5720.jpg&amp;imgrefurl=http://www.marietta.edu/~biol/biomes/temprain.htm&amp;usg=__M4ZB_Ylkpkg4oObPg-r5L82sGbA=&amp;h=375&amp;w=500&amp;sz=134&amp;hl=en&amp;start=14&amp;tbnid=IJ1Ryd8A-wBUVM:&amp;tbnh=98&amp;tbnw=130&amp;prev=/images%3Fq%3Drainforest%26gbv%3D2%26hl%3Den%26sa%3D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tribe.net/tribe/upload/photo/4c7/37b/4c737ba4-ee90-4429-83e7-f9973dfd0b21.large-profile.jpg&amp;imgrefurl=http://people.tribe.net/discman&amp;usg=__tmAH4WpiCzXhDKLPMWWL-Ww0kBg=&amp;h=375&amp;w=500&amp;sz=107&amp;hl=en&amp;start=7&amp;tbnid=2A-7BV0JyBL3EM:&amp;tbnh=98&amp;tbnw=130&amp;prev=/images%3Fq%3Dcosta%2Brica%2Bwildlife%26gbv%3D2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lonelyplanet.com/travelstories/article/costarica_eco_0906/costa_rica.jpg&amp;imgrefurl=http://www.lonelyplanet.com/travelstories/article/costarica_eco_0906&amp;usg=__8S8FYBKNKF0-5VClkiUgZT-3IAA=&amp;h=262&amp;w=466&amp;sz=18&amp;hl=en&amp;start=5&amp;tbnid=JL8gZBh1O6AmDM:&amp;tbnh=72&amp;tbnw=128&amp;prev=/images%3Fq%3Dcosta%2Brica%2Bwildlife%26gbv%3D2%26hl%3Den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ver5.elliswyatt.com/crvillas/images/Toucansm.jpg&amp;imgrefurl=http://www.crvillas.com/default.aspx%3Fid%3D7&amp;usg=___uFIoMudWjjFudzODj21xZ6uVUg=&amp;h=379&amp;w=320&amp;sz=115&amp;hl=en&amp;start=2&amp;tbnid=5ZFjaxTUyjpZFM:&amp;tbnh=123&amp;tbnw=104&amp;prev=/images%3Fq%3Dcosta%2Brica%2Bwildlife%26gbv%3D2%26hl%3Den%26sa%3D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.focusonnature.com/CostaR17.jpg&amp;imgrefurl=http://www.focusonnature.com/CentralAmericaMammalList.htm&amp;usg=__hqCve_pxu2KEvcj76wQO_RVhUNM=&amp;h=368&amp;w=247&amp;sz=15&amp;hl=en&amp;start=18&amp;tbnid=iW3Xe3AdbPFD-M:&amp;tbnh=122&amp;tbnw=82&amp;prev=/images%3Fq%3Dcosta%2Brica%2Bwildlife%26gbv%3D2%26hl%3Den%26sa%3D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costaricaholiday.co.uk/Images/Packages/jaguar.jpg&amp;imgrefurl=http://www.costaricaholiday.co.uk/Family/FamilyWildlife.htm&amp;usg=__j-qvNaUbhXl6T6C3OSZHySdC3co=&amp;h=222&amp;w=335&amp;sz=11&amp;hl=en&amp;start=6&amp;tbnid=UhR-gzUrEn8KwM:&amp;tbnh=79&amp;tbnw=119&amp;prev=/images%3Fq%3Dcosta%2Brica%2Bwildlife%26gbv%3D2%26hl%3Den%26sa%3D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static.travelmuse.com/docs/artwork/costa-rica/costa-rica-wildlife-monkeys-full.jpg&amp;imgrefurl=http://www.travelmuse.com/articles/costa-rica/wildlife-sightings&amp;usg=__tQqXRBFcCjF1zlbP_xcPAnUjUcA=&amp;h=800&amp;w=533&amp;sz=62&amp;hl=en&amp;start=42&amp;tbnid=7sT8TjGVXYx_kM:&amp;tbnh=143&amp;tbnw=95&amp;prev=/images%3Fq%3Dcosta%2Brica%2Bwildlife%26gbv%3D2%26ndsp%3D20%26hl%3Den%26sa%3DN%26start%3D40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imagecache2.allposters.com/images/pic/PTGPOD/386515~Eyelash-Viper-Snake-Costa-Rica-Posters.jpg&amp;imgrefurl=http://www.zimbio.com/David%2BCarradine/articles/122/The%2BAnimals%2Bof%2BKung%2BFu%2BPanda&amp;usg=__v0aAPc0tfW43JSOjBn-5FOLbAnc=&amp;h=450&amp;w=337&amp;sz=39&amp;hl=en&amp;start=1&amp;tbnid=f3hfBrt_vPgm-M:&amp;tbnh=127&amp;tbnw=95&amp;prev=/images%3Fq%3Dcosta%2Brica%2Bsnakes%2Blizard%26gbv%3D2%26hl%3Den%26sa%3DG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com/imgres?imgurl=http://www.costarica.com/Blog/uploaded_images/Basilisk-Lizard-746623.JPG&amp;imgrefurl=http://www.costarica.com/Blog/2008_05_01_archive.html&amp;usg=__TIGRHZGS8Ds3ucbkUpvR3x-Fkt0=&amp;h=480&amp;w=610&amp;sz=121&amp;hl=en&amp;start=11&amp;tbnid=3SMoa6vZtsbpVM:&amp;tbnh=107&amp;tbnw=136&amp;prev=/images%3Fq%3Dcosta%2Brica%2Bsnakes%2Blizard%26gbv%3D2%26hl%3Den%26sa%3DG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artwomenscoaching.com/blog/wp-content/uploads/2006/11/Costa%2520Rica.bmp&amp;imgrefurl=http://www.capricornleisure.com/destinations/costa-rica/&amp;usg=__oNsmqzHwNvjrkAvS1HlqkV9N1to=&amp;h=300&amp;w=380&amp;sz=335&amp;hl=en&amp;start=10&amp;tbnid=n0fvxSiK7aa0rM:&amp;tbnh=97&amp;tbnw=123&amp;prev=/images%3Fq%3Dcosta%2Brica%26gbv%3D2%26hl%3Den%26sa%3D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Toucan Flapping Wings Animated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038480"/>
            <a:ext cx="1695600" cy="1695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Monarch Butterfly Flapping Wings Animated Clipar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191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3657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214" name="" descr="Volcano erupting Animated Clipa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826920"/>
            <a:ext cx="25909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5360"/>
            <a:ext cx="2590920" cy="194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228600"/>
            <a:ext cx="1743120" cy="196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6576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3124080"/>
            <a:ext cx="2819160" cy="212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114800" y="1066680"/>
            <a:ext cx="20383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Waterfall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3809880"/>
            <a:ext cx="2857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infore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95480" y="251460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ildli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590920"/>
            <a:ext cx="1981440" cy="149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12408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80880"/>
            <a:ext cx="163512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14800" y="426708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914400"/>
            <a:ext cx="2200320" cy="146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1800" y="380880"/>
            <a:ext cx="116352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0760" y="426708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480" y="4876920"/>
            <a:ext cx="198144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914400"/>
            <a:ext cx="4876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pital City:    San J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ocated in Central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pular Spot for Tour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ature Preserves &amp; 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eautiful Be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131840"/>
            <a:ext cx="2086200" cy="164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324480" y="3578400"/>
            <a:ext cx="19814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48:08Z</dcterms:created>
  <dc:creator>Patrick Mooney</dc:creator>
  <dc:description/>
  <dc:language>en-US</dc:language>
  <cp:lastModifiedBy>Patrick Mooney</cp:lastModifiedBy>
  <dcterms:modified xsi:type="dcterms:W3CDTF">2009-04-02T14:24:16Z</dcterms:modified>
  <cp:revision>4</cp:revision>
  <dc:subject/>
  <dc:title>Slide 1</dc:title>
</cp:coreProperties>
</file>